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move the slide</a:t>
            </a:r>
            <a:endParaRPr b="0" lang="en-US" sz="8000" spc="-1" strike="noStrike">
              <a:solidFill>
                <a:srgbClr val="ffcc66"/>
              </a:solidFill>
              <a:latin typeface="Bodoni MT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3A17-474E-4C10-94D0-B4858D01E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s reliability was brought into question when a major contributor was found to be a 14 year-old boy instead of a scientist with a PhD and years of experience.  He got most of his information from other Web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Watch-dog sites are controversial.  A web site where a woman can publish the names and pictures of men who other women should watch out for has made the news recent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deas to add to the discu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rable compu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hanced intelligence (via instant communications and/or direct comput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question is the foundation for many issues and controversies discussed in later chapters.  One example you can introduce here is the right to freedom of speech versus the need to protect children from materials that are inappropriate for them.  Have the class identify who the affected parties are.  What are the negative and positive rights for the different parties?  Note: the laws pertaining to this issue are discussed in chapter thre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utomobiles you can prompt the class with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V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cks and wat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gis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r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ates have passed laws prohibiting use of hand-held devices.  Recent studies show hands-free devices, while freeing up the hands, do not reduce distractions, particularly among young adult and teenage drivers who often text message while dr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ras in cell phones threaten privacy.  Where is the line between capturing news events and evidence of crimes, and voyeur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s like Second Life (www.secondlife.com) combine many of the features of social networking sites with the 3-D aspects of video games.  What new problems/benefits arise when a person can take on a physical persona (an avatar) that may be completely different from who they are in real life?  Some people with physical disabilities can interact with others without revealing their handic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9DA49-EDB0-4BAE-95D6-FBDD97CBA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B77D9-2AA1-48DB-945A-9E2508E1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C251A-95B4-481E-AC37-FFB4D15C1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6BCE1-89E7-4400-9013-E9F243811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2603C-CB7D-41C4-B797-F25BC8E96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723F9-8740-42D3-951A-DD7402F1E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55C3A-C6BB-49B1-A5DB-081BDBE0D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EC380-E1E2-4A6D-9DEF-7DF644993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3AAAF-27F5-4F38-AF3D-1F12A59E5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6C340-9B4D-437A-B8F1-231BB27CC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A983A-B1AE-4685-BDB6-4F9D3DC70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7FE80-38B8-49EF-AECB-EB0A400E6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48495-3C32-4823-84E1-1963B7B43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F15A4-D280-4053-883F-17A1CF570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2C49D-E4B7-42D5-B47F-DD754B899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910E4-A9BC-4106-9E13-D386E2067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61E05-291F-48E9-940E-32B2012F2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F186C-2786-4ABE-A3E3-6E2C35B44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DD060-C9D8-4430-BA0B-B266E1261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A0078-D09D-4448-8E4F-6D9834646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E1740-0247-45A8-B913-E4CBA596D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B57D9-EDCD-4BE8-885E-1F6065E71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6D4E9-A596-4779-9644-0E682955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5429A-0ECB-4BA1-A5ED-FA7095E01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lick to edit the title text format</a:t>
            </a:r>
            <a:endParaRPr b="0" lang="en-US" sz="4400" spc="-1" strike="noStrike">
              <a:solidFill>
                <a:srgbClr val="ffcc66"/>
              </a:solidFill>
              <a:latin typeface="Bodoni MT Black"/>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B438-BB7B-477A-84F8-C4A6C155CF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edit the title text format</a:t>
            </a:r>
            <a:endParaRPr b="0" lang="en-US" sz="8000" spc="-1" strike="noStrike">
              <a:solidFill>
                <a:srgbClr val="ffcc66"/>
              </a:solidFill>
              <a:latin typeface="Bodoni MT Black"/>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s prepared by Cyndi Chie and Sarah Frye</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9DF6-1B96-4712-A973-2AA73BD872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3000"/>
          </a:bodyPr>
          <a:p>
            <a:pPr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outline text format</a:t>
            </a:r>
            <a:endParaRPr b="0" lang="en-US" sz="4400" spc="-1" strike="noStrike">
              <a:solidFill>
                <a:srgbClr val="ffffff"/>
              </a:solidFill>
              <a:latin typeface="Arial"/>
            </a:endParaRPr>
          </a:p>
          <a:p>
            <a:pPr lvl="1" marL="4251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0320" algn="ctr">
              <a:spcBef>
                <a:spcPts val="799"/>
              </a:spcBef>
              <a:buClr>
                <a:srgbClr val="00ffff"/>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7548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00640" algn="ctr">
              <a:spcBef>
                <a:spcPts val="799"/>
              </a:spcBef>
              <a:buClr>
                <a:srgbClr val="00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447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Bodoni MT Black"/>
              </a:rPr>
              <a:t>A Gift of Fire</a:t>
            </a:r>
            <a:br>
              <a:rPr sz="8000"/>
            </a:br>
            <a:r>
              <a:rPr b="0" lang="en-US" sz="2400" spc="-1" strike="noStrike">
                <a:solidFill>
                  <a:srgbClr val="ffcc66"/>
                </a:solidFill>
                <a:latin typeface="Bodoni MT Black"/>
              </a:rPr>
              <a:t>Third edition</a:t>
            </a:r>
            <a:br>
              <a:rPr sz="2400"/>
            </a:br>
            <a:r>
              <a:rPr b="0" lang="en-US" sz="4800" spc="-1" strike="noStrike">
                <a:solidFill>
                  <a:srgbClr val="ffcc66"/>
                </a:solidFill>
                <a:latin typeface="Bodoni MT Black"/>
              </a:rPr>
              <a:t>Sara Baase</a:t>
            </a:r>
            <a:endParaRPr b="0" lang="en-US" sz="4800" spc="-1" strike="noStrike">
              <a:solidFill>
                <a:srgbClr val="ffcc66"/>
              </a:solidFill>
              <a:latin typeface="Bodoni MT Black"/>
            </a:endParaRPr>
          </a:p>
        </p:txBody>
      </p:sp>
      <p:sp>
        <p:nvSpPr>
          <p:cNvPr id="96" name="PlaceHolder 2"/>
          <p:cNvSpPr>
            <a:spLocks noGrp="1"/>
          </p:cNvSpPr>
          <p:nvPr>
            <p:ph type="subTitle"/>
          </p:nvPr>
        </p:nvSpPr>
        <p:spPr>
          <a:xfrm>
            <a:off x="685800" y="3429000"/>
            <a:ext cx="7772400" cy="175248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1: Unwrapping the Gif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on:</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 the online, collaborative encyclopedia</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Directory Project (ODP)</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on between scientists in different states or countrie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dogs on the Web</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mmerce and Free Stuff:</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stuff on the web: email, books, newspapers, games, etc.</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Amazon.com started in 1994 and 10 years later annual sales reached $8.5 billion</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V show episodes are available to view on the We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18" name="PlaceHolder 2"/>
          <p:cNvSpPr>
            <a:spLocks noGrp="1"/>
          </p:cNvSpPr>
          <p:nvPr>
            <p:ph/>
          </p:nvPr>
        </p:nvSpPr>
        <p:spPr>
          <a:xfrm>
            <a:off x="685800" y="1980720"/>
            <a:ext cx="7772400" cy="43434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ificial Intelligence (AI), Robotics, and Motion:</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 suited to narrow, specialized skill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otic devices often special-purpose devices, and may require AI to function</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on sensing devices are used to give robots the ability to walk, trigger airbags in a crash and cushion laptops when dropped</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for Disabled Peopl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ation of abilities, productivity and independen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 readers and scanner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ech recognition</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sthetics and motion sensors</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s Nex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records on chips attached to medical bracelet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and computer sciences will combine new ways to insert micro-processors or controlled devices on human bod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br>
              <a:rPr sz="4400"/>
            </a:br>
            <a:r>
              <a:rPr b="0" lang="en-US" sz="4400" spc="-1" strike="noStrike">
                <a:solidFill>
                  <a:srgbClr val="ffcc66"/>
                </a:solidFill>
                <a:latin typeface="Bodoni MT Black"/>
              </a:rPr>
              <a:t>Discussion Question</a:t>
            </a:r>
            <a:endParaRPr b="0" lang="en-US" sz="4400" spc="-1" strike="noStrike">
              <a:solidFill>
                <a:srgbClr val="ffcc66"/>
              </a:solidFill>
              <a:latin typeface="Bodoni MT Black"/>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hanges and new developments do you expect in the next 50 years?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ill life be different than it is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Issues and Themes</a:t>
            </a:r>
            <a:endParaRPr b="0" lang="en-US" sz="4400" spc="-1" strike="noStrike">
              <a:solidFill>
                <a:srgbClr val="ffcc66"/>
              </a:solidFill>
              <a:latin typeface="Bodoni MT Black"/>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mployme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ienation and customer servi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m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privac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ro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Issues and Themes (cont.)</a:t>
            </a:r>
            <a:endParaRPr b="0" lang="en-US" sz="4400" spc="-1" strike="noStrike">
              <a:solidFill>
                <a:srgbClr val="ffcc66"/>
              </a:solidFill>
              <a:latin typeface="Bodoni MT Black"/>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problems in a new context: crime, pornography, violent fiction</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pting to new technology: thinking in a new wa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ed sources of solutions to problems: natural part of change and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Issues and Themes (cont.)</a:t>
            </a:r>
            <a:endParaRPr b="0" lang="en-US" sz="4400" spc="-1" strike="noStrike">
              <a:solidFill>
                <a:srgbClr val="ffcc66"/>
              </a:solidFill>
              <a:latin typeface="Bodoni MT Black"/>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s (con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 reach of net: ease of communication with distant countri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e-offs and controversy: increasing security means reducing convenien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ce between personal choices, business policies, and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Ethics</a:t>
            </a:r>
            <a:endParaRPr b="0" lang="en-US" sz="4400" spc="-1" strike="noStrike">
              <a:solidFill>
                <a:srgbClr val="ffcc66"/>
              </a:solidFill>
              <a:latin typeface="Bodoni MT Black"/>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Ethic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of what it means to “do the right thing”</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s people are rational and make free choic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s to follow in our interactions and our actions that affect oth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What We Will Cover</a:t>
            </a:r>
            <a:endParaRPr b="0" lang="en-US" sz="4400" spc="-1" strike="noStrike">
              <a:solidFill>
                <a:srgbClr val="ffcc66"/>
              </a:solidFill>
              <a:latin typeface="Bodoni MT Black"/>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Pace of Chang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Developments and Dramatic Impact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s and Themes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Ethics (cont.)</a:t>
            </a:r>
            <a:endParaRPr b="0" lang="en-US" sz="4400" spc="-1" strike="noStrike">
              <a:solidFill>
                <a:srgbClr val="ffcc66"/>
              </a:solidFill>
              <a:latin typeface="Bodoni MT Black"/>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cal View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ontological</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tarianism</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right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imple answers</a:t>
            </a:r>
            <a:endParaRPr b="0" lang="en-US" sz="3200" spc="-1" strike="noStrike">
              <a:solidFill>
                <a:srgbClr val="ffffff"/>
              </a:solidFill>
              <a:latin typeface="Arial"/>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organizations (businesses) have eth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Ethics (cont.)</a:t>
            </a:r>
            <a:endParaRPr b="0" lang="en-US" sz="4400" spc="-1" strike="noStrike">
              <a:solidFill>
                <a:srgbClr val="ffcc66"/>
              </a:solidFill>
              <a:latin typeface="Bodoni MT Black"/>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Distinction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wrong and oka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rights (liberties)</a:t>
            </a:r>
            <a:endParaRPr b="0" lang="en-US" sz="3200" spc="-1" strike="noStrike">
              <a:solidFill>
                <a:srgbClr val="ffffff"/>
              </a:solidFill>
              <a:latin typeface="Arial"/>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ght to act without interferen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rights (claim-rights)</a:t>
            </a:r>
            <a:endParaRPr b="0" lang="en-US" sz="3200" spc="-1" strike="noStrike">
              <a:solidFill>
                <a:srgbClr val="ffffff"/>
              </a:solidFill>
              <a:latin typeface="Arial"/>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bligation of some people to provide certain things for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Ethics (cont.)</a:t>
            </a:r>
            <a:endParaRPr b="0" lang="en-US" sz="4400" spc="-1" strike="noStrike">
              <a:solidFill>
                <a:srgbClr val="ffcc66"/>
              </a:solidFill>
              <a:latin typeface="Bodoni MT Black"/>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Distinctions (co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ce between wrong and harm</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preference and ethic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and Eth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Ethics</a:t>
            </a:r>
            <a:br>
              <a:rPr sz="4000"/>
            </a:br>
            <a:r>
              <a:rPr b="0" lang="en-US" sz="4000" spc="-1" strike="noStrike">
                <a:solidFill>
                  <a:srgbClr val="ffcc66"/>
                </a:solidFill>
                <a:latin typeface="Bodoni MT Black"/>
              </a:rPr>
              <a:t>Discussion Question</a:t>
            </a:r>
            <a:endParaRPr b="0" lang="en-US" sz="4000" spc="-1" strike="noStrike">
              <a:solidFill>
                <a:srgbClr val="ffcc66"/>
              </a:solidFill>
              <a:latin typeface="Bodoni MT Black"/>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think of examples of liberties (negative rights) and claim-rights (positive rights) that are at opposition to each 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Rapid Pace of Change</a:t>
            </a:r>
            <a:endParaRPr b="0" lang="en-US" sz="4400" spc="-1" strike="noStrike">
              <a:solidFill>
                <a:srgbClr val="ffcc66"/>
              </a:solidFill>
              <a:latin typeface="Bodoni MT Black"/>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40s: The first computer is buil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56: First hard-disk drive weighed a ton and stored five megabyt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1: Space shuttle had a one-megahertz computer</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6: Pocket devices hold a terabyte (one trillion bytes) of data</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6: Automobiles can have 100-megahertz computer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Rapid Pace of Change: </a:t>
            </a:r>
            <a:br>
              <a:rPr sz="4400"/>
            </a:br>
            <a:r>
              <a:rPr b="0" lang="en-US" sz="4400" spc="-1" strike="noStrike">
                <a:solidFill>
                  <a:srgbClr val="ffcc66"/>
                </a:solidFill>
                <a:latin typeface="Bodoni MT Black"/>
              </a:rPr>
              <a:t>Discussion Question</a:t>
            </a:r>
            <a:endParaRPr b="0" lang="en-US" sz="4400" spc="-1" strike="noStrike">
              <a:solidFill>
                <a:srgbClr val="ffcc66"/>
              </a:solidFill>
              <a:latin typeface="Bodoni MT Black"/>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evices are now computerized that were not originally?  Think back 10, 20, 50 years ag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a:t>
            </a:r>
            <a:endParaRPr b="0" lang="en-US" sz="4400" spc="-1" strike="noStrike">
              <a:solidFill>
                <a:srgbClr val="ffcc66"/>
              </a:solidFill>
              <a:latin typeface="Bodoni MT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gs (Word made up from ‘web log’):</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an as outlets for amateurs who want to express ideas or creativity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ling because present personal views, are funny and creative, and present a quirky perspective on current ev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gs (co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used as alternatives to mainstream news and for business public relation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r blogs have 100,000 to 500,000 readers per day and can peak at several million views per da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Sharing:</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e of amateur videos on the web</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m of websites like Youtube and Myspa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videos on the web can infringe copyrights owned by entertainment compan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 Phon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now be used for travel, last minute planning, taking pictures and downloading music</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king on cell phones while driving is a problem</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 phones can interfere with solitude, quiet and concentration</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ras in cell phones and privacy issu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Networking:</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online social networking site was www.classmates.com in 1995</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space, founded in 2003 had roughly 100 million member profiles by 2006</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ebook was started at Harvard as an online version of student directo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9T20:42:23Z</dcterms:created>
  <dc:creator> </dc:creator>
  <dc:description/>
  <dc:language>en-US</dc:language>
  <cp:lastModifiedBy>Sara</cp:lastModifiedBy>
  <dcterms:modified xsi:type="dcterms:W3CDTF">2007-11-25T02:51:45Z</dcterms:modified>
  <cp:revision>41</cp:revision>
  <dc:subject/>
  <dc:title>         Gift of Fi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21033</vt:lpwstr>
  </property>
</Properties>
</file>